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19C4-4522-420A-986D-1858864A0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usti will introdu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J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 years of book cl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ed and shared ideas, shared books, started slo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JH librarys doing –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llaboration – very successful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e ideas are from ALL Arlington ISD librari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ar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2 yea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4115-3922-454A-B759-423D09966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trail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to educators  - www.animoto.com or Photopeach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CE72-30FB-4952-9284-11A00F57F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3F6F-B941-49E1-AAE3-9C1A001F1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al – formal or informal – show example that is linked to the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ed as an informal clu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5E3-3E31-4B5D-99AB-57785E56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Fair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ing books off the Scholastic ca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library lo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Mone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D0F-810F-4F91-8001-EFF2DC102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 and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 Up Sheet in the lib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promote to the grade entering your school (for the next year) – example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 orientat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yer – show Dusti’s fl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920-1AD3-4B8B-8CBB-A5B3B0A1A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all about style… every book club is different depending on what works for your camp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f our book clubs conduct their meetings at lunch, before school, and after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– how o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he book together or independent r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brarian led or student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is included – teachers, parents etc… what are the expectations of the participants, will this be formal or more relaxed and informa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ting arrang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322-790D-4243-AE48-72ED13488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places we get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azines – BL, G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8CB-AE44-404A-86B1-AEE69BE3A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and Du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marks – commercial and librarian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-b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80B-CD95-463B-AB06-D953E8D8C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 out bookmarks that have the tit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61D-8493-461B-A405-7D9A305A5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2B2-197F-4C6A-8E78-86867E0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953-CBC2-4715-BECB-6547DF44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801-B523-4175-89D8-8D71BB92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314-29E7-4194-BAC4-DCDF3CB1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F93-EB43-4A6D-83DA-7D7573E1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200-EFB1-4F8F-B479-07FDE2E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F24-952D-49B9-856C-E525098D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3A2-490D-4E94-A6CC-24064018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EA98-B352-4D4D-9B92-E139080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E9C2-FC5F-4EF7-9765-879E6E8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F461-F6F3-4B6F-8FFD-E2FA53C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9AE-6689-46AE-BD04-77337748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599-1BDE-439A-B151-9A8D819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004E-3E80-4BED-8903-6B2A3B6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AC1-50B7-4905-8768-8AAD4B9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DABB-1582-4752-B781-9B167E9E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1556-7B63-4250-AE1A-21258BA1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1E3E-2B71-45F2-9E57-569E5225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61C7-A338-41E9-94A6-CDAEBA0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30B3-5668-4016-B939-E3AC7E2F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C66F-9AF8-4BD2-BE0D-2834318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D014-CE4F-4DA8-94AB-5169C1DD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DB9-EA14-4ED2-A6A6-8FF4E92B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9E1E-59DD-485C-A62A-1739133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36FB-6766-4724-A25B-AC64734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A844-0A19-4E2C-B4A5-C207CF1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1B3F-463D-4248-A7D8-51384FD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84BF-58C5-45FE-8091-FCA4E30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26E3-12CB-49D2-BE54-9F76D7F5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6DFC-02B8-4471-8956-5D242654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EE325-16D8-4935-9FD6-FFB0B7E7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9716-C5C5-4008-9770-421E94F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1E22-B0E5-4E09-B342-54A3124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639-39F5-4C3B-8229-D646559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4447-3A4A-4E3D-8300-D50A2A1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FAC5-C599-4353-887B-ACCFD28F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D2DA-EA49-4C93-A29B-694DD7AE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FE1C-3938-4F8C-AE2E-B5192EA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CA2F-9FC0-4D4A-9FF8-7900295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7268-68C5-49E1-AEB8-32E1A92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989F-7446-41F7-9EF8-49277A53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E912-A44D-4DA2-9382-50D0CA77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3761-D544-4FAA-BE3F-A0DF0772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D587-E55E-45A2-9E01-8A6D4434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136-1C01-4ABE-BF48-E5903008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FF81-90DE-4EDB-86DE-FD3E3431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CD6B-B3DD-49F9-A09B-D088D76E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03EE-1674-41A4-AF1B-B4F7000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C19BB-B969-49BD-BFF7-4CC24374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C5E3-558E-49B1-8A4A-56CC31B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4B9D-65C7-430C-A108-B5012CC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42D3-E4A6-49B3-9AE0-6195630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72A2-66CE-401A-8C25-1B213EC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4800-7E68-4E23-A70A-25D20AE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38E4-0238-4C5B-B211-3615C3BC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88B-E7BB-4FF8-8B65-0417034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9A38-4C7D-47DF-8B34-6BE0EB2B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F7AE-5FAF-460B-A34E-640F13E9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7425-FC1F-4F5A-BF32-DB02819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0C30-5DB0-4C8C-B25B-418AEB9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79B4-FAE4-47A6-8D8F-249F083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68E2-C664-4570-AA01-B767624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0137-15B2-42B2-AAC1-88447D10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0B10-D009-4196-AD9C-BCD1A99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D61D-4016-44C2-B3D7-8681521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6D0A-59A7-4DFE-ADAA-2875ABF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A0D-B1B1-48DB-A4AF-3368E87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75D61-F9D4-4242-8964-B8A087B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B4A9-3893-4C0A-9680-5838045B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92FC-D06D-46E8-9D65-1DC236A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749-988C-46FB-AA30-55DD767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642-2D6C-4EBD-9432-E710BDF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CFE-49C5-4FAC-94AA-5E9C06BB58E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074E-D9D2-4EAA-9C9B-D8279F4C8D1B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12F-27EE-4EE9-8D54-139778C7E900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2E8-5A29-4D4D-A4BA-DC597B601D8A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BBD-9209-4E8F-ABF3-DDB48C66D33C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500C-4294-4989-AC48-3008B0170E3C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wilight%20bookmark%202.ppt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Subtitle 1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OOK CLUB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3" descr="C:\Users\JMoore16\AppData\Local\Microsoft\Windows\Temporary Internet Files\Content.IE5\9KKG8N68\MP900439419[1].jpg"/>
          <p:cNvPicPr/>
          <p:nvPr/>
        </p:nvPicPr>
        <p:blipFill>
          <a:blip r:embed="rId2"/>
          <a:stretch/>
        </p:blipFill>
        <p:spPr>
          <a:xfrm>
            <a:off x="1981080" y="152280"/>
            <a:ext cx="6934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OOK TRAILER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Picture 5" descr="C:\Users\JMoore16\AppData\Local\Microsoft\Windows\Temporary Internet Files\Content.IE5\8LNCCFIR\MP900315661[1].jpg"/>
          <p:cNvPicPr/>
          <p:nvPr/>
        </p:nvPicPr>
        <p:blipFill>
          <a:blip r:embed="rId1"/>
          <a:stretch/>
        </p:blipFill>
        <p:spPr>
          <a:xfrm>
            <a:off x="304920" y="1828800"/>
            <a:ext cx="299088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C:\Users\JMoore16\AppData\Local\Microsoft\Windows\Temporary Internet Files\Content.IE5\O8YNH4R8\MP900314259[1].jpg"/>
          <p:cNvPicPr/>
          <p:nvPr/>
        </p:nvPicPr>
        <p:blipFill>
          <a:blip r:embed="rId2"/>
          <a:stretch/>
        </p:blipFill>
        <p:spPr>
          <a:xfrm>
            <a:off x="6195960" y="2362320"/>
            <a:ext cx="2948040" cy="4038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Users\JMoore16\AppData\Local\Microsoft\Windows\Temporary Internet Files\Content.IE5\THZ2V4EA\MP900405448[1].jpg"/>
          <p:cNvPicPr/>
          <p:nvPr/>
        </p:nvPicPr>
        <p:blipFill>
          <a:blip r:embed="rId3"/>
          <a:stretch/>
        </p:blipFill>
        <p:spPr>
          <a:xfrm>
            <a:off x="3505320" y="1905120"/>
            <a:ext cx="2865240" cy="25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C:\Users\JMoore16\AppData\Local\Microsoft\Windows\Temporary Internet Files\Content.IE5\THZ2V4EA\MP900049577[1].jpg"/>
          <p:cNvPicPr/>
          <p:nvPr/>
        </p:nvPicPr>
        <p:blipFill>
          <a:blip r:embed="rId4"/>
          <a:stretch/>
        </p:blipFill>
        <p:spPr>
          <a:xfrm>
            <a:off x="0" y="4395960"/>
            <a:ext cx="3657600" cy="2462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C:\Users\dparker2\AppData\Local\Microsoft\Windows\Temporary Internet Files\Content.IE5\3TJZQZGK\MC900290104[1].wmf"/>
          <p:cNvPicPr/>
          <p:nvPr/>
        </p:nvPicPr>
        <p:blipFill>
          <a:blip r:embed="rId5"/>
          <a:stretch/>
        </p:blipFill>
        <p:spPr>
          <a:xfrm>
            <a:off x="4191120" y="4572000"/>
            <a:ext cx="17571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ctures from microsoftclipart.c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ETTING STARTED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C:\Users\JMoore16\AppData\Local\Microsoft\Windows\Temporary Internet Files\Content.IE5\8LNCCFIR\MP900341318[1].jpg"/>
          <p:cNvPicPr/>
          <p:nvPr/>
        </p:nvPicPr>
        <p:blipFill>
          <a:blip r:embed="rId1"/>
          <a:stretch/>
        </p:blipFill>
        <p:spPr>
          <a:xfrm>
            <a:off x="1905120" y="1905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HOW US THE MONE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2" descr="C:\Users\JMoore16\AppData\Local\Microsoft\Windows\Temporary Internet Files\Content.IE5\9KKG8N68\MP900442387[1]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ET’ER DONE…PROMOTING YOUR BOOK CLUB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6" descr="C:\Users\JMoore16\AppData\Local\Microsoft\Windows\Temporary Internet Files\Content.IE5\8LNCCFIR\MP900442330[1].jpg"/>
          <p:cNvPicPr/>
          <p:nvPr/>
        </p:nvPicPr>
        <p:blipFill>
          <a:blip r:embed="rId1"/>
          <a:stretch/>
        </p:blipFill>
        <p:spPr>
          <a:xfrm>
            <a:off x="228600" y="2209680"/>
            <a:ext cx="8610480" cy="43434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 rot="20818800">
            <a:off x="3306960" y="4293360"/>
            <a:ext cx="376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ook Club Meets Toda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@ Your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T’S ALL ABOUT STYLE…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19" descr="C:\Users\JMoore16\AppData\Local\Microsoft\Windows\Temporary Internet Files\Content.IE5\8LNCCFIR\MP900400652[1].jpg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HAT IN THE WORLD DO WE RE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2" descr="C:\Users\JMoore16\AppData\Local\Microsoft\Windows\Temporary Internet Files\Content.IE5\O8YNH4R8\MP900448290[1].jpg"/>
          <p:cNvPicPr/>
          <p:nvPr/>
        </p:nvPicPr>
        <p:blipFill>
          <a:blip r:embed="rId1"/>
          <a:stretch/>
        </p:blipFill>
        <p:spPr>
          <a:xfrm>
            <a:off x="3886200" y="2514600"/>
            <a:ext cx="1752480" cy="2637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540720" y="3505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ne  Star Read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C:\Users\JMoore16\AppData\Local\Microsoft\Windows\Temporary Internet Files\Content.IE5\8LNCCFIR\MP900409763[1].jpg"/>
          <p:cNvPicPr/>
          <p:nvPr/>
        </p:nvPicPr>
        <p:blipFill>
          <a:blip r:embed="rId3"/>
          <a:stretch/>
        </p:blipFill>
        <p:spPr>
          <a:xfrm>
            <a:off x="6477120" y="2133720"/>
            <a:ext cx="2060280" cy="1371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6091560" y="35812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wspaper/Magazine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Users\JMoore16\AppData\Local\Microsoft\Windows\Temporary Internet Files\Content.IE5\8LNCCFIR\MP900442494[1].jpg"/>
          <p:cNvPicPr/>
          <p:nvPr/>
        </p:nvPicPr>
        <p:blipFill>
          <a:blip r:embed="rId4"/>
          <a:stretch/>
        </p:blipFill>
        <p:spPr>
          <a:xfrm>
            <a:off x="6858000" y="4495680"/>
            <a:ext cx="1143000" cy="17193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9"/>
          <p:cNvSpPr/>
          <p:nvPr/>
        </p:nvSpPr>
        <p:spPr>
          <a:xfrm>
            <a:off x="6251040" y="624852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culty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:\Users\JMoore16\AppData\Local\Microsoft\Windows\Temporary Internet Files\Content.IE5\8LNCCFIR\MP900439424[1].jpg"/>
          <p:cNvPicPr/>
          <p:nvPr/>
        </p:nvPicPr>
        <p:blipFill>
          <a:blip r:embed="rId5"/>
          <a:stretch/>
        </p:blipFill>
        <p:spPr>
          <a:xfrm>
            <a:off x="990720" y="4495680"/>
            <a:ext cx="2063520" cy="1384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4"/>
          <p:cNvSpPr/>
          <p:nvPr/>
        </p:nvSpPr>
        <p:spPr>
          <a:xfrm>
            <a:off x="846000" y="60199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6"/>
          <p:cNvSpPr/>
          <p:nvPr/>
        </p:nvSpPr>
        <p:spPr>
          <a:xfrm flipV="1">
            <a:off x="5715000" y="3048120"/>
            <a:ext cx="762120" cy="3808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8"/>
          <p:cNvSpPr/>
          <p:nvPr/>
        </p:nvSpPr>
        <p:spPr>
          <a:xfrm>
            <a:off x="5334120" y="4572000"/>
            <a:ext cx="1523880" cy="12952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20"/>
          <p:cNvSpPr/>
          <p:nvPr/>
        </p:nvSpPr>
        <p:spPr>
          <a:xfrm flipH="1">
            <a:off x="2971440" y="4342680"/>
            <a:ext cx="1136520" cy="99684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22"/>
          <p:cNvSpPr/>
          <p:nvPr/>
        </p:nvSpPr>
        <p:spPr>
          <a:xfrm flipH="1" flipV="1">
            <a:off x="2361960" y="2743200"/>
            <a:ext cx="1523880" cy="8380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IMMEES AND GADGET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6" descr="C:\Users\JMoore16\AppData\Local\Microsoft\Windows\Temporary Internet Files\Content.IE5\8LNCCFIR\MP900448727[1].jpg"/>
          <p:cNvPicPr/>
          <p:nvPr/>
        </p:nvPicPr>
        <p:blipFill>
          <a:blip r:embed="rId1"/>
          <a:stretch/>
        </p:blipFill>
        <p:spPr>
          <a:xfrm>
            <a:off x="609480" y="2133720"/>
            <a:ext cx="807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IMMEES AND GADGET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Picture 2" descr="C:\Users\dparker2\AppData\Local\Microsoft\Windows\Temporary Internet Files\Content.IE5\C3YVMM6P\MP900401284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222720"/>
            <a:ext cx="2971800" cy="197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Users\dparker2\AppData\Local\Microsoft\Windows\Temporary Internet Files\Content.IE5\2M5X8SYJ\MP900316361[1].jpg"/>
          <p:cNvPicPr/>
          <p:nvPr/>
        </p:nvPicPr>
        <p:blipFill>
          <a:blip r:embed="rId3"/>
          <a:stretch/>
        </p:blipFill>
        <p:spPr>
          <a:xfrm>
            <a:off x="5715000" y="3090960"/>
            <a:ext cx="2971800" cy="2243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dparker2\AppData\Local\Microsoft\Windows\Temporary Internet Files\Content.IE5\XZQJHAOB\MP900303008[1].jpg"/>
          <p:cNvPicPr/>
          <p:nvPr/>
        </p:nvPicPr>
        <p:blipFill>
          <a:blip r:embed="rId4"/>
          <a:stretch/>
        </p:blipFill>
        <p:spPr>
          <a:xfrm>
            <a:off x="5943600" y="3200400"/>
            <a:ext cx="2884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ND THE WINNERS ARE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6" descr="C:\Users\JMoore16\AppData\Local\Microsoft\Windows\Temporary Internet Files\Content.IE5\O8YNH4R8\MP900409425[1].jpg"/>
          <p:cNvPicPr/>
          <p:nvPr/>
        </p:nvPicPr>
        <p:blipFill>
          <a:blip r:embed="rId1"/>
          <a:stretch/>
        </p:blipFill>
        <p:spPr>
          <a:xfrm>
            <a:off x="380880" y="1932120"/>
            <a:ext cx="83822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9:16:53Z</dcterms:created>
  <dc:creator>AISD Employee</dc:creator>
  <dc:description/>
  <dc:language>en-US</dc:language>
  <cp:lastModifiedBy>AISD Employee</cp:lastModifiedBy>
  <dcterms:modified xsi:type="dcterms:W3CDTF">2010-06-01T20:10:48Z</dcterms:modified>
  <cp:revision>64</cp:revision>
  <dc:subject/>
  <dc:title>Slide 1</dc:title>
</cp:coreProperties>
</file>